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wmf" ContentType="image/x-wmf"/>
  <Override PartName="/ppt/media/image23.jpeg" ContentType="image/jpe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7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003320" y="726840"/>
            <a:ext cx="4851360" cy="363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440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0D62-0C02-4F37-B9F5-8A8AF48A55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no.nonsense.ee/qth/map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no.nonsense.ee/qth/map.html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no.nonsense.ee/qth/map.html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no.nonsense.ee/qth/map.html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F23-D591-4FB4-A976-FC90332B60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ndortkenner, IARU =&gt; Locator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ößtfelder [Fields]: AA (links unten) bis RR (rechts ob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utschland: JN und J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teilung der Größtfelder in 100 Großfelder [Squares]: 00.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B03-C0FE-4F92-85F5-E7EE1220E6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rgestellt: Großfeld JO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teilung Großf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4 mal 24 = 576  [Kleinfelder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nnzeichnung: AA..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r &gt;erste&lt; der letzten beiden Buchstabenwird: horizontal (X-Ach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d der &gt;zweite&lt;: vertikal (Y-Ach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geles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er in unseren Brei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a. 7km x 5 km (&gt;&gt; 2° / 1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satzfrage: Für was steht das ON (grün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lg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0983-7D31-40BE-B20C-9D96080678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feld JN58 (meist auf Kurzwelle ausreichend &lt;-&gt; Zusätzliche Information zum Ortsna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.nonsense.ee/qth/map.html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E6D-D606-4CD1-A1A0-9A3E820629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 Stellen Lokator =&gt; JN58SD  (Normale Größe auf VHF =&gt; bis ca. 400 km Funkverkehr auf VHF / UH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.nonsense.ee/qth/map.html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D8D-D128-410C-A21A-016A46127B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0 Stellen Lokator:  JN58SD76HV =&gt; sehr kleines Rechteck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.nonsense.ee/qth/map.html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3C1-3A02-415C-9BDB-F371518F26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chtung / Entfer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.nonsense.ee/qth/map.html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hier [JN58SD] =&gt; Nord-Osten von Bordeaux [IN94RU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titude: 48.147743  Longitude: 11.545486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ocator: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JN58SD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 (map, sat, terr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stance from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IN94RU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994.429 k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(617.91 mi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aring ~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64.09°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(reverse bearing ~ 252.88°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dpoint - lat: 46.659175 lon: 5.3163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ndortkenner / LOCA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ndort, Entfernung, Richtung (Antenne [!]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ch auf QSL -&gt; theoretisch beliebig ge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VHF / QSL-Karte: meist 6 Z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Kurzwelle: 4 Stellen gen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Link ermöglicht bis 10 Stellen Genauigkeit =&gt; anschau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felder Deutschland (JN / JO),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r erste der letzten beiden Buchstaben wird horizontal (X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chse) und der zweite vertikal (Y-Achse) abgeles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ltwe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C59-685E-4086-93B0-6CCE4F029C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chtung / Entfernung  BACKUP (Kar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no.nonsense.ee/qth/map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hier [JN58SD] =&gt; Nord-Osten von Bordeaux [IN94RU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titude: 48.147743  Longitude: 11.545486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ocator: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JN58SD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 (map, sat, terr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stance from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IN94RU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994.429 k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(617.91 mi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aring ~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64.09°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(reverse bearing ~ 252.88°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dpoint - lat: 46.659175 lon: 5.3163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7886-293A-4FF5-ABEA-85E80CFB2DE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TH: Standort [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D20-33FE-4D93-A0AD-AAAED7E42D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 Amateurfunk: RST System ausreic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sbarkeit Signalstärke Tonqualitä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Kommerziell – andere wie SINPO - http://www.fading.de/sinpo.ph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rmal: R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Schwierigkeit R4 bis 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darunter kaum verständli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ächste Fol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ignalstärke: S-Meter S1-S9 (&lt;- meist mit Angabe der Station, Antenne,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F0F-6FE2-4A3D-B3ED-232127F873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Calibri"/>
              </a:rPr>
              <a:t>Im Amateurfunk: RST System ausreic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Calibri"/>
              </a:rPr>
              <a:t>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Calibri"/>
              </a:rPr>
              <a:t>Normal: R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Calibri"/>
              </a:rPr>
              <a:t>Bei Schwierigkeit R4 bis 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Calibri"/>
              </a:rPr>
              <a:t>(darunter kaum verständli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ignalstärke: S-Meter S1-S9 (&lt;- meist mit Angabe der Station, Antenne,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BD8-8F71-4BCD-8886-6182FC8367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TH: Standort [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D700-9C23-4B17-91FE-495B52326D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 Amateurfunk: RST System ausreic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Kommerziell – andere wie SINPO - http://www.fading.de/sinpo.ph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rora borealis =&gt; A (da ton generell stark verbrumm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6DC-DBA9-4376-ABC6-CE77DDD651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164-D626-4DB0-8CA7-8181FAF129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8 d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ind es18 dB Spannungs- oder Leistungsunterschi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B ist unabhängig von Spannung oder Lei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aktor ist abhängig, ob Spannung oder Stromlevel [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 dB = Faktor 4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Leistung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=&gt; 4^3= 64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Leistung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…)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aktor 2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Spannung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) =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2^3=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A6FD-4B2A-416C-97D5-4B53F3818C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ordnung, wann gesendet wurde ?! =&gt; Logb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omputerlog: Einsehbar – Software vorhanden, gespeich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4B16-A6ED-4F62-8EE1-E00E0421A1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ist am Computer – hier älterer Screenshot aus HAM Offi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ist inklusive Locator us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nT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C19-BD04-4F12-8BC4-F2DE98894A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das eigene Rufz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Rufzeichen der Gegen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Bedarf noch die Angabe eines QSL-Mana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Datum und Uhrzeit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n Weltzeit - U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 Amateurfunkband oder besser: die Freque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die Betriebs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der Signalreport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nach RST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schrift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die für Diplome des DARCs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neuerdings nicht mehr erforderlich i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# Empfehlenswe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OK: Ortsverband bei DARC-Mitgliedsch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Distriks-Ortsverband-Kenner – C18: OV München Sü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 Deutschla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TU-Zone: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AZ-Zone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1E33-6957-457B-9F5E-41D87B4B32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[DIRECT] [BUREAU] [QSL-Manager</a:t>
            </a:r>
            <a:r>
              <a:rPr b="0" lang="de-DE" sz="1200" spc="-1" strike="noStrike">
                <a:solidFill>
                  <a:srgbClr val="ff0000"/>
                </a:solidFill>
                <a:latin typeface="Calibri"/>
              </a:rPr>
              <a:t> &gt;&gt;QSL via&lt;&lt;</a:t>
            </a: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] [eQS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o Adres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er internationalen Amateurfunk-Rufzeichenliste (Callbook) oder aus Informationen des Inter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rekter Austaus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SAE (self-addressed envelope)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Man legt dem Brief mit der QSL-Karte einen an sich selbst beschrifteten Briefumschlag bei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SASE (self-addressed stamped envelope)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Beigelegt wird ein an sich selbst beschrifteter und in den Briefmarken der Gegenstation frankierten Briefumschla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 </a:t>
            </a: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IRC (international reply coupon)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ist ein internationaler Antwortschein, der bei den Poststellen erhältlich ist, und im Brief mitgesendet wird. IRCs können jedoch nicht in allen Ländern umgetauscht werd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Calibri"/>
              </a:rPr>
              <a:t>"green stamp"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steht dafür, dass eine 1 US-Dollarnote ($) beigelegt werden s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6B4-DC2A-4643-B161-3C06BD9A60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QSL-Karten mitbringen (meine bescheiden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QS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QSL-Manager, qrz.com, WELTWEIT (auch in Unterberkist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eqsl.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[DIRECT] [BUREAU] [QSL-Manager] [eQS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FC3A-1272-4239-B72F-A059DBBD2F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QSL-Karten mitbringen (meine bescheidenen) =&gt; Austaus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QS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QSL-Manager, qrz.com, WELTWEIT (auch in Unterberkist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eqsl.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Calibri"/>
              </a:rPr>
              <a:t>[DIRECT] [BUREAU] [QSL-Manager] [eQS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6C1-E18F-4767-B033-299989E672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FF6-2CF8-41FE-B2DC-D4AEE9C5DD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9D7-7888-42F4-A6C9-162EA97254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Zur Lösung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: Bei den Antworten zu dieser Frage müssen Sie herausfinden, in welcher Antwort nur die internationalen Buchstabierwörter verwendet werden. Denmark für „D“ oder Otto für „O“ sind beispielsweise falsch. 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wei Klippen sind für Deutschsprachige in diesem Buchstabieralphabet enthalten. Zoulou für Z wird international mit einem weichen S gesprochen, also „sulu“. Leider wird es dadurch im deutschen Funkverkehr gelegentlich mit „sierra“ verwechselt. Außerdem gibt es keine Umlaute in diesem Alphabet. Ä, Ö und Ü werden als A-E, O-E oder U-E buchstabi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F63-2360-4906-BA88-58A6A64355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ind für Telegraphie gedacht, ein paar Prüfungsfragen daz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ist umgangssprachlich – falsch – verwend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E00B-4E47-4AF0-A0E2-36EC9ED577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ind für Telegraphie gedacht, ein paar Prüfungsfragen daz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r hät‘s gewus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FAC-3B4A-4F35-8665-B4340F6462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t Lösungsweg [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7E9-DDD3-4ABF-8B89-BF12BAFB06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TH: Standort [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82E-56C1-4CC9-A039-EDC86F6386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ndortkenner, QTH-Locator von IARU =&gt; Locator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ößtfelder [Fields]: AA (links unten) bis RR (rechts ob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03CF-FF2A-4E26-9F52-CC1AEBDD6E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no.nonsense.ee/qth/map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no.nonsense.ee/qth/map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no.nonsense.ee/qth/map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no.nonsense.ee/qth/map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no.nonsense.ee/qth/map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ationen über die Mailing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lists.darc.de/mailman/listinfo/lizkurs_c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seite Ortsverband München-Sü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ww.darc.de/c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ammelte Inf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iki.muc.ccc.de/afu-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ächster Termi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, 04. Dezember 19 Uhr lok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TH – Locator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321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"/>
          <p:cNvPicPr/>
          <p:nvPr/>
        </p:nvPicPr>
        <p:blipFill>
          <a:blip r:embed="rId2"/>
          <a:stretch/>
        </p:blipFill>
        <p:spPr>
          <a:xfrm>
            <a:off x="5508720" y="1917720"/>
            <a:ext cx="3406680" cy="46800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26" name="AutoShape 5"/>
          <p:cNvSpPr/>
          <p:nvPr/>
        </p:nvSpPr>
        <p:spPr>
          <a:xfrm>
            <a:off x="76320" y="-182520"/>
            <a:ext cx="45720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TH – Locator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76320" y="-182520"/>
            <a:ext cx="45720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"/>
          <p:cNvPicPr/>
          <p:nvPr/>
        </p:nvPicPr>
        <p:blipFill>
          <a:blip r:embed="rId1"/>
          <a:stretch/>
        </p:blipFill>
        <p:spPr>
          <a:xfrm>
            <a:off x="2340000" y="1870200"/>
            <a:ext cx="6264360" cy="4727520"/>
          </a:xfrm>
          <a:prstGeom prst="rect">
            <a:avLst/>
          </a:prstGeom>
          <a:ln w="0">
            <a:noFill/>
          </a:ln>
        </p:spPr>
      </p:pic>
      <p:sp>
        <p:nvSpPr>
          <p:cNvPr id="531" name="Textfeld 9"/>
          <p:cNvSpPr/>
          <p:nvPr/>
        </p:nvSpPr>
        <p:spPr>
          <a:xfrm>
            <a:off x="6306480" y="1413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roßfeld JO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556840" cy="6454800"/>
          </a:xfrm>
          <a:prstGeom prst="rect">
            <a:avLst/>
          </a:prstGeom>
          <a:ln w="0">
            <a:noFill/>
          </a:ln>
        </p:spPr>
      </p:pic>
      <p:sp>
        <p:nvSpPr>
          <p:cNvPr id="534" name="Textfeld 7"/>
          <p:cNvSpPr/>
          <p:nvPr/>
        </p:nvSpPr>
        <p:spPr>
          <a:xfrm>
            <a:off x="179280" y="613584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no.nonsense.ee/qth/map.htm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&gt;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hier klick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feld 8"/>
          <p:cNvSpPr/>
          <p:nvPr/>
        </p:nvSpPr>
        <p:spPr>
          <a:xfrm>
            <a:off x="6588000" y="1814400"/>
            <a:ext cx="1871640" cy="9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JN5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1160" y="871560"/>
            <a:ext cx="6781680" cy="5114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166680" y="115920"/>
            <a:ext cx="8582040" cy="6473880"/>
          </a:xfrm>
          <a:prstGeom prst="rect">
            <a:avLst/>
          </a:prstGeom>
          <a:ln w="0">
            <a:noFill/>
          </a:ln>
        </p:spPr>
      </p:pic>
      <p:sp>
        <p:nvSpPr>
          <p:cNvPr id="53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feld 7"/>
          <p:cNvSpPr/>
          <p:nvPr/>
        </p:nvSpPr>
        <p:spPr>
          <a:xfrm>
            <a:off x="179280" y="613584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no.nonsense.ee/qth/map.htm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&gt;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hier klick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feld 8"/>
          <p:cNvSpPr/>
          <p:nvPr/>
        </p:nvSpPr>
        <p:spPr>
          <a:xfrm>
            <a:off x="6588000" y="1836720"/>
            <a:ext cx="1871640" cy="9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JN58S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496360" cy="6404040"/>
          </a:xfrm>
          <a:prstGeom prst="rect">
            <a:avLst/>
          </a:prstGeom>
          <a:ln w="0">
            <a:noFill/>
          </a:ln>
        </p:spPr>
      </p:pic>
      <p:sp>
        <p:nvSpPr>
          <p:cNvPr id="54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feld 7"/>
          <p:cNvSpPr/>
          <p:nvPr/>
        </p:nvSpPr>
        <p:spPr>
          <a:xfrm>
            <a:off x="179280" y="609300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no.nonsense.ee/qth/map.htm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&gt;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hier klick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feld 6"/>
          <p:cNvSpPr/>
          <p:nvPr/>
        </p:nvSpPr>
        <p:spPr>
          <a:xfrm>
            <a:off x="6575400" y="1814400"/>
            <a:ext cx="2008080" cy="9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JN58S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76H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496360" cy="6384960"/>
          </a:xfrm>
          <a:prstGeom prst="rect">
            <a:avLst/>
          </a:prstGeom>
          <a:ln w="0">
            <a:noFill/>
          </a:ln>
        </p:spPr>
      </p:pic>
      <p:sp>
        <p:nvSpPr>
          <p:cNvPr id="54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feld 7"/>
          <p:cNvSpPr/>
          <p:nvPr/>
        </p:nvSpPr>
        <p:spPr>
          <a:xfrm>
            <a:off x="179280" y="609300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no.nonsense.ee/qth/map.htm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&gt;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hier klick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feld 6"/>
          <p:cNvSpPr/>
          <p:nvPr/>
        </p:nvSpPr>
        <p:spPr>
          <a:xfrm>
            <a:off x="6659640" y="1814400"/>
            <a:ext cx="172872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N58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94RU (Bordeaux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66680" y="115920"/>
            <a:ext cx="8528040" cy="6408720"/>
          </a:xfrm>
          <a:prstGeom prst="rect">
            <a:avLst/>
          </a:prstGeom>
          <a:ln w="0">
            <a:noFill/>
          </a:ln>
        </p:spPr>
      </p:pic>
      <p:sp>
        <p:nvSpPr>
          <p:cNvPr id="55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feld 7"/>
          <p:cNvSpPr/>
          <p:nvPr/>
        </p:nvSpPr>
        <p:spPr>
          <a:xfrm>
            <a:off x="179280" y="609300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no.nonsense.ee/qth/map.htm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&gt;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hier klick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feld 8"/>
          <p:cNvSpPr/>
          <p:nvPr/>
        </p:nvSpPr>
        <p:spPr>
          <a:xfrm>
            <a:off x="6659640" y="1814400"/>
            <a:ext cx="172872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N58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94RU (Bordeaux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350964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TH-Lo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ST, QSL-Karte, Logbuch, Dipl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1" descr=""/>
          <p:cNvPicPr/>
          <p:nvPr/>
        </p:nvPicPr>
        <p:blipFill>
          <a:blip r:embed="rId1"/>
          <a:stretch/>
        </p:blipFill>
        <p:spPr>
          <a:xfrm>
            <a:off x="2124000" y="4610160"/>
            <a:ext cx="511200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pport nach RST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392880" cy="4392720"/>
          </a:xfrm>
          <a:prstGeom prst="rect">
            <a:avLst/>
          </a:prstGeom>
          <a:ln w="0">
            <a:noFill/>
          </a:ln>
        </p:spPr>
      </p:pic>
      <p:sp>
        <p:nvSpPr>
          <p:cNvPr id="560" name="Textfeld 12"/>
          <p:cNvSpPr/>
          <p:nvPr/>
        </p:nvSpPr>
        <p:spPr>
          <a:xfrm>
            <a:off x="821520" y="638172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ch höre dich mit 5 und 9. // Ur rst 5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pport nach RST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hteck 4"/>
          <p:cNvSpPr/>
          <p:nvPr/>
        </p:nvSpPr>
        <p:spPr>
          <a:xfrm>
            <a:off x="2333160" y="1844640"/>
            <a:ext cx="54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s-meter.de/skale.ht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, Zitat vom 27.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http://www.s-meter.de/img/skale.gif"/>
          <p:cNvPicPr/>
          <p:nvPr/>
        </p:nvPicPr>
        <p:blipFill>
          <a:blip r:embed="rId1"/>
          <a:stretch/>
        </p:blipFill>
        <p:spPr>
          <a:xfrm>
            <a:off x="1401840" y="2276640"/>
            <a:ext cx="6338880" cy="3889080"/>
          </a:xfrm>
          <a:prstGeom prst="rect">
            <a:avLst/>
          </a:prstGeom>
          <a:ln w="0">
            <a:noFill/>
          </a:ln>
        </p:spPr>
      </p:pic>
      <p:sp>
        <p:nvSpPr>
          <p:cNvPr id="565" name="Textfeld 6"/>
          <p:cNvSpPr/>
          <p:nvPr/>
        </p:nvSpPr>
        <p:spPr>
          <a:xfrm>
            <a:off x="821520" y="638172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ch höre dich mit 5 und 9. // Ur rst 5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351000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e Wiederholung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TH-Lo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T, QSL-Karte, Logbuch, Dipl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886800" cy="272412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pport nach RS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BB3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groß ist der Unterschied zwischen S4 und S7 in Dezibel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8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8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" descr="C:\Users\user\AppData\Local\Microsoft\Windows\Temporary Internet Files\Content.IE5\OIWU05FN\MC900441902[1].wmf"/>
          <p:cNvPicPr/>
          <p:nvPr/>
        </p:nvPicPr>
        <p:blipFill>
          <a:blip r:embed="rId1"/>
          <a:stretch/>
        </p:blipFill>
        <p:spPr>
          <a:xfrm>
            <a:off x="7380360" y="3333600"/>
            <a:ext cx="1295280" cy="1532160"/>
          </a:xfrm>
          <a:prstGeom prst="rect">
            <a:avLst/>
          </a:prstGeom>
          <a:ln w="0">
            <a:noFill/>
          </a:ln>
        </p:spPr>
      </p:pic>
      <p:sp>
        <p:nvSpPr>
          <p:cNvPr id="573" name="Textfeld 6"/>
          <p:cNvSpPr/>
          <p:nvPr/>
        </p:nvSpPr>
        <p:spPr>
          <a:xfrm>
            <a:off x="4217400" y="55897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Times New Roman"/>
              </a:rPr>
              <a:t>Weitere Fragen im B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BB304)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groß ist der Unterschied zwischen S4 und S7 in Dezibel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8 dB  = 3 · 6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8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FRAGE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es 18 dB Spannungs- oder Leistungsuntersch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Fak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156360" y="1413000"/>
            <a:ext cx="2733480" cy="250488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b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0720"/>
            <a:ext cx="5973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s Wichtigste in Kür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ist das Stationstagebuch, das ein Funkamateur freiwillig führt oder in besonderen Fällen führen muss.“ [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e: BG10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en in Weltzeit (UTC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ordnung durch zuständige Behörde möglich, z.B. bei Funkstörungen [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gl. BG10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uterlog, aber einsehbar [BG103 / BG1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b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1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5726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SL-Karte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355640" y="1980720"/>
            <a:ext cx="4102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G11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elche Angaben sollten QSL-Karten mindestens enthalte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erwendetes Rufzeich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Rufzeichen der Gegens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atum und Uhrzeit der Funkverbindung in UTC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requen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etriebsa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ignal-Ra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terschrift des Operator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mpfehlenswert sind die zusätzliche Angaben von Adresse, eigenem DOK</a:t>
            </a:r>
            <a:r>
              <a:rPr b="0" i="1" lang="de-DE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Locator, ITU-Zone, WAZ-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Vorderseite einer QSL-Karte"/>
          <p:cNvPicPr/>
          <p:nvPr/>
        </p:nvPicPr>
        <p:blipFill>
          <a:blip r:embed="rId1"/>
          <a:stretch/>
        </p:blipFill>
        <p:spPr>
          <a:xfrm>
            <a:off x="573120" y="1989000"/>
            <a:ext cx="3473280" cy="2232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Typische Rückseite einer QSL-Karte"/>
          <p:cNvPicPr/>
          <p:nvPr/>
        </p:nvPicPr>
        <p:blipFill>
          <a:blip r:embed="rId2"/>
          <a:stretch/>
        </p:blipFill>
        <p:spPr>
          <a:xfrm>
            <a:off x="539640" y="4365720"/>
            <a:ext cx="3475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SL-Karte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355640" y="1980720"/>
            <a:ext cx="4102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hin dam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S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a bureau, eQSL oder dir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E (self-addressed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SE (self-addressed stamped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C (international reply roupon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nicht für alle L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en stamp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1-2 Dollar als Briefma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2" descr="Vorderseite einer QSL-Karte"/>
          <p:cNvPicPr/>
          <p:nvPr/>
        </p:nvPicPr>
        <p:blipFill>
          <a:blip r:embed="rId1"/>
          <a:stretch/>
        </p:blipFill>
        <p:spPr>
          <a:xfrm>
            <a:off x="573120" y="1989000"/>
            <a:ext cx="3473280" cy="2232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Typische Rückseite einer QSL-Karte"/>
          <p:cNvPicPr/>
          <p:nvPr/>
        </p:nvPicPr>
        <p:blipFill>
          <a:blip r:embed="rId2"/>
          <a:stretch/>
        </p:blipFill>
        <p:spPr>
          <a:xfrm>
            <a:off x="539640" y="4365720"/>
            <a:ext cx="3475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QS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440" y="5876640"/>
            <a:ext cx="31654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eqsl.cc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" descr="C:\Users\user\Documents\Eigene Dateien\Amateurfunk\EQSLs\9A1R__cfimg17235798173693504.JPG"/>
          <p:cNvPicPr/>
          <p:nvPr/>
        </p:nvPicPr>
        <p:blipFill>
          <a:blip r:embed="rId1"/>
          <a:stretch/>
        </p:blipFill>
        <p:spPr>
          <a:xfrm>
            <a:off x="3851280" y="31417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QS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440" y="5876640"/>
            <a:ext cx="31654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eqsl.cc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" descr="C:\Users\user\Documents\Eigene Dateien\Amateurfunk\EQSLs\9A1R__cfimg17235798173693504.JPG"/>
          <p:cNvPicPr/>
          <p:nvPr/>
        </p:nvPicPr>
        <p:blipFill>
          <a:blip r:embed="rId1"/>
          <a:stretch/>
        </p:blipFill>
        <p:spPr>
          <a:xfrm>
            <a:off x="3851280" y="3141720"/>
            <a:ext cx="5029200" cy="3200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C:\Users\user\Documents\Eigene Dateien\Amateurfunk\EQSLs\DL8MFU__cfimg-5117448269177253810.JPG"/>
          <p:cNvPicPr/>
          <p:nvPr/>
        </p:nvPicPr>
        <p:blipFill>
          <a:blip r:embed="rId2"/>
          <a:stretch/>
        </p:blipFill>
        <p:spPr>
          <a:xfrm>
            <a:off x="1258920" y="1940040"/>
            <a:ext cx="5616720" cy="357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ächste Woche: Mi, 04. Dezember 19 Uhr lo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63B-7009-4ACB-8C7C-DC4AD4A0604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feld 6"/>
          <p:cNvSpPr/>
          <p:nvPr/>
        </p:nvSpPr>
        <p:spPr>
          <a:xfrm>
            <a:off x="0" y="3429000"/>
            <a:ext cx="9144000" cy="37515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Fragen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Nächste Stunde: [Diode, Halbleiter, HEUTE] /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=&gt; Betriebstechnik: VHF UHF DX (Fernverbind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Markus, restliche Kapitel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=&gt; Vorschriften: Amateurfunkges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dh.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rage in der Betriebstechnik (BA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 ist das Rufzeichen DO9XYZ unter Zuhilfenahme des Internationalen Buchstabieralphabetes richtig buchstab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6" descr="C:\Users\user\AppData\Local\Microsoft\Windows\Temporary Internet Files\Content.IE5\SLB05ASA\MC900397074[1].wmf"/>
          <p:cNvPicPr/>
          <p:nvPr/>
        </p:nvPicPr>
        <p:blipFill>
          <a:blip r:embed="rId1"/>
          <a:stretch/>
        </p:blipFill>
        <p:spPr>
          <a:xfrm>
            <a:off x="324000" y="1484280"/>
            <a:ext cx="866520" cy="858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C:\Users\user\AppData\Local\Microsoft\Windows\Temporary Internet Files\Content.IE5\OIWU05FN\MC900441902[1].wmf"/>
          <p:cNvPicPr/>
          <p:nvPr/>
        </p:nvPicPr>
        <p:blipFill>
          <a:blip r:embed="rId2"/>
          <a:stretch/>
        </p:blipFill>
        <p:spPr>
          <a:xfrm>
            <a:off x="7308720" y="407664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C:\Users\user\AppData\Local\Microsoft\Windows\Temporary Internet Files\Content.IE5\SLB05ASA\MC900441930[1].wmf"/>
          <p:cNvPicPr/>
          <p:nvPr/>
        </p:nvPicPr>
        <p:blipFill>
          <a:blip r:embed="rId1"/>
          <a:stretch/>
        </p:blipFill>
        <p:spPr>
          <a:xfrm>
            <a:off x="7093080" y="4711680"/>
            <a:ext cx="1655640" cy="15969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dh.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in der Betriebstechnik (BA104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 ist das Rufzeichen DO9XYZ unter Zuhilfenahme des Internationalen Buchstabieralphabetes richtig buchstab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lt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sca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9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Yanke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dh.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rage in der Betriebstechnik (BB2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Bedeutung haben in der gleichen Reihenfolge gelesen die Q-Gruppen "QRV", "QRM?" und "QTH"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ch habe nichts mehr für Sie.  Werden Sie gestört?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n Standort i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n Sie eine Reihe V. Soll ich mehr Sendeleistung anwenden?  Ihre gesendeten Töne sind kaum hör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ch bin bereit.  Werden Sie gestört?  Mein Standort i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ch habe nichts mehr für Sie.  Mein Standort ist … Ich bin ber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C:\Users\user\AppData\Local\Microsoft\Windows\Temporary Internet Files\Content.IE5\OIWU05FN\MC900441902[1].wmf"/>
          <p:cNvPicPr/>
          <p:nvPr/>
        </p:nvPicPr>
        <p:blipFill>
          <a:blip r:embed="rId1"/>
          <a:stretch/>
        </p:blipFill>
        <p:spPr>
          <a:xfrm>
            <a:off x="7380360" y="3333600"/>
            <a:ext cx="1295280" cy="15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dh.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rage in der Betriebstechnik (BB201)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Bedeutung haben in der gleichen Reihenfolge gelesen die Q-Gruppen "QRV", "QRM?" und "QTH"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ch habe nichts mehr für Sie.  Werden Sie gestört?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n Standort i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n Sie eine Reihe V. Soll ich mehr Sendeleistung anwenden?  Ihre gesendeten Töne sind kaum hör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ch bin bereit.  Werden Sie gestört?  Mein Standort i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ch habe nichts mehr für Sie.  Mein Standort ist … Ich bin ber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C:\Users\user\AppData\Local\Microsoft\Windows\Temporary Internet Files\Content.IE5\SLB05ASA\MC900441930[1].wmf"/>
          <p:cNvPicPr/>
          <p:nvPr/>
        </p:nvPicPr>
        <p:blipFill>
          <a:blip r:embed="rId1"/>
          <a:stretch/>
        </p:blipFill>
        <p:spPr>
          <a:xfrm>
            <a:off x="7236000" y="3357720"/>
            <a:ext cx="16570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nweis Lichtbli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19640" y="1980720"/>
            <a:ext cx="5038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sfragen – 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http://www.dl9hcg.a36.de/lichtblick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läuterungen zu jeder Prüfungsfr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chtbli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lasse E 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chtbli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lasse A 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xikon: Betriebs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600280" cy="509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350964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TH-Lo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T, QSL-Karte, Logbuch, Dipl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2124000" y="4610160"/>
            <a:ext cx="511200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TH – 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32108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5"/>
          <p:cNvSpPr/>
          <p:nvPr/>
        </p:nvSpPr>
        <p:spPr>
          <a:xfrm>
            <a:off x="76320" y="-182520"/>
            <a:ext cx="45720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16:25Z</dcterms:created>
  <dc:creator>vtk2006; Dominik Bok</dc:creator>
  <dc:description/>
  <dc:language>en-US</dc:language>
  <cp:lastModifiedBy>user</cp:lastModifiedBy>
  <dcterms:modified xsi:type="dcterms:W3CDTF">2013-11-29T19:11:01Z</dcterms:modified>
  <cp:revision>226</cp:revision>
  <dc:subject/>
  <dc:title>PowerPoint-Präsentation</dc:title>
</cp:coreProperties>
</file>